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E39-7C63-4202-90C3-D51171F7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FE6-C991-4FCB-8DD5-399AE582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F9B-E09C-41E3-BCA2-A9A5B6A1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B7F-965A-4130-B282-D1856599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09E2-1B57-4285-92F3-733133F8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AE88-37D8-4069-AC7D-6F75FC7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77F2-EECE-4A30-A9CB-979156EF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D0FA-FC28-42EE-8084-E362424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DDE6-36A4-4E73-98D9-CD28E2B7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4143-CA84-4D8F-8BB8-23C665C8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2EC3-9721-42A8-8A9D-4B8620F7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5E7-F9DB-4E41-97D2-0F5FC005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D359-EA41-4FF4-B600-38605CF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A64D-7202-48C6-A1AE-2F05CF2C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5300-B5B8-4402-8439-0F0DBE09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576F-D56E-471A-A7EF-401FC64C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56F-B9EA-4980-AA6F-065BB95F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043-263C-4AEF-A59F-8DD21013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C51-F591-4F1C-89C5-C43FF7A0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E7F-1AA5-429B-93C9-D7172B25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5D0-1BCD-474B-B5B8-80758632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CF6-784F-454A-A697-B83710D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707-64D8-4695-96FE-45DD2F94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1BB-2EE5-4495-BD85-470DF0E9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6B17-46D4-42CB-A638-8313B1FBB7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511C-3EBA-4D04-83D0-2B4C0C4F34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2360" y="121932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Сочинялки-2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р –Титкова М. 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:\Documents and Settings\Libava7\Рабочий стол\Незнайка 7.jpg"/>
          <p:cNvPicPr/>
          <p:nvPr/>
        </p:nvPicPr>
        <p:blipFill>
          <a:blip r:embed="rId1"/>
          <a:stretch/>
        </p:blipFill>
        <p:spPr>
          <a:xfrm>
            <a:off x="5413320" y="873000"/>
            <a:ext cx="2597040" cy="3687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моги Незнайк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7120" y="1599840"/>
            <a:ext cx="8059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от со слово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акл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езнайка засомневался… Помни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еофрагме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88040" y="3925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604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моги Незнайк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1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акля –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акля – цап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п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юстра –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юстра – ус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ку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шуст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моги Незнайк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820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ительное – существ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 – гла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х часте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240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акля – цапл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п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грать – чит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ляс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юстра – ус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ку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шуст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аленькие соав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мы хоти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гр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аленькие соав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мы хоти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гр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… Надо перемен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ж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... Надо всех друзей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з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, не хоти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куч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аленькие соав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исть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9880" y="2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аленькие соав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истья – ки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ки выберем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и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аленькие соав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ки выберем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и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раскрасим э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исть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… Разукрасим э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исть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аленькие соав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авн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ки выберем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и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раскраси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исть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ки выберем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и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раскраси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э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исть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думай двустиш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нфеты – бил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ак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кр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..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шка – задви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ни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трижк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дети узнают о своих талантах, если они не попробуют себя во многих полезных дел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быть поэтом или нет? Нестандартный урок с веселым названием «Сочинялки» помогает детям самим найти ответ на этот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думай двустиш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Сколько съела 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нф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маленький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кр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чень вкусны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нф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и в праздничных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аке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Для подарка из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нф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жно предъяви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би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думай двустиш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от лесног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рь закрыть на вс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движ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в добрых детск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ниж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ыми быва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ш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 совсем лохматым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бы мишке сделал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риж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что можно придумать ещ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дор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 растут бере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дор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 ведет к стор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ой стор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 стор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й стри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д стор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й по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й ветер качает бере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й мишка крадется к стор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мишка зайдет на пор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получит он сла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й пиро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, как, по-вашему, легко ли быть поэт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400" y="16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аем успех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юнь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C:\Documents and Settings\Libava7\Рабочий стол\Незнайка 3 .jpg"/>
          <p:cNvPicPr/>
          <p:nvPr/>
        </p:nvPicPr>
        <p:blipFill>
          <a:blip r:embed="rId1"/>
          <a:stretch/>
        </p:blipFill>
        <p:spPr>
          <a:xfrm>
            <a:off x="3270240" y="2352600"/>
            <a:ext cx="260352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ов Н. Приключения Незнайки и его друзей (любое изд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найка-поэ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втор сценария Н. Носов, режиссер В. Голиков. – Творческое объединение «Экран», 197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цели этого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нировка памя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ловарного запаса школьни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ние уважения к правильному русскому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о скажет, что это неактуально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таком уроке детям объясняется, что такое рифма и какую роль она играет в стихосложении, а потом дети сами пробуют сочинить свои первые двустишия и таким образом, сами решают, легко ли быть поэ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33480" y="1517760"/>
            <a:ext cx="771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знает, возможно, у кого-то из таких «сочинялок» в будущем получатся серьезные сочинени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Documents and Settings\Libava7\Рабочий стол\Незнайка 6.jpg"/>
          <p:cNvPicPr/>
          <p:nvPr/>
        </p:nvPicPr>
        <p:blipFill>
          <a:blip r:embed="rId1"/>
          <a:stretch/>
        </p:blipFill>
        <p:spPr>
          <a:xfrm>
            <a:off x="5340240" y="2462040"/>
            <a:ext cx="26146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гко ли быть поэт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помним книгу Н. Носова «Приключения Незнайки и его друзей», а именно: историю «Как Незнайка сочинял стихи»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2320" y="1599840"/>
            <a:ext cx="849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знает, что такое риф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фрагме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4707000" y="3125880"/>
          <a:ext cx="695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7000" y="3125880"/>
                    <a:ext cx="695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433840" y="4071960"/>
            <a:ext cx="34801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гра в риф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фма – это созвуч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традка – шокол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ал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заклад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ткова М. Ю.</dc:creator>
  <dc:description/>
  <dc:language>en-US</dc:language>
  <cp:lastModifiedBy>User</cp:lastModifiedBy>
  <dcterms:modified xsi:type="dcterms:W3CDTF">2013-01-19T21:19:1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